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405F-6AB8-45F8-BFAE-5F932FE52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hinking how in the world does what we have learn relate to baking, you are also thinking are we going to eat?! The answer to the second question is much easier then the first, yes we are going to eat! For the first let’s start at the beginning.</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has changed for me, I’m not as nervous. I know this is what I want to do and I haven’t wasted the last three years. Also I’m not as nervous about not knowing, because I’m not the only one. Content knowledge is something that comes with experience, and in one weekend you can learn enough about Halogens that your students think you have a degree in it. It’s also ok to make a mistake, most likely someone is going to pick up on it, and students will see that it’s ok for them to make a mistake as well and as we all know you can always learn from your mistak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is is your first time baking or you’ve been doing it for a while the first step is always… WASH YOUR HANDS! So now that the obvious is out of the w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pick a recipe. For everything you bake there is a core group of ingredients that will be the same for almost every recipe, but if you do not know what you are baking then you do not know what amounts of each you will need.  With backwards design you if you know what you want out of your students you know what to put into them. Like a recipe you decide what their final product will be and then make lessons to support accomplishing that goa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y recipe I choose M&amp;M cookies! Why? Basically so I could use the metaphor students are like M&amp;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students like M&amp;M’s? All students have the ability to learn, just like all M&amp;M’s are made out of chocolate, they just learn in different ways, the colors on the outside of the M&amp;M’s. By using MI theory in lessons means that we are accommodating all the different learning styles as well as enhancing other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was saying in the beginning there are core ingredients that you use in almost every baking adventure, but you use different amounts for different recipes. This is the same for students; one might need more time to think things over while another might need to see it written down. Each student might need a different modification and this might not be equal but your final product will still be a cooki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y baker knows you must test along the way, or else you will end up baking cookie dough that is not able to be consumed by humans. As anyone in the house you are baking in will tell you, you also need to give samples of the cookie dough before you cook it as well. This way they can provide feedback and suggest ways to improve upon your doug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products must always be shared with others, both the student’s final product and the teacher’s lesson. Students share with you and their classmates what they have learned in an authentic assessment, that doesn’t show how well they can take a test but what they really have learned. Sharing with their classmates puts that pressure on them to make sure they do the assignment to a high enough degree that they feel comfortable sharing it with their peers. It also gives them a chance to show off what they have learned. Final product must be shared with others. Teachers can share their final products (their lessons) with peers and can get their input on how to make this the best lesson possi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doesn’t come out good the first time this does not mean you have failed. Lighting the oven on fire or adding to much salt to a recipe is not failure it is a learning experience. Students and teachers learn from their mistakes, especially if they spend the time to find out why it went wrong. Making modifications strengthens a lesson, and students get to show what they have actually learned, not what they remembered when they were having an off da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F7634-CEFB-4E4E-971D-0353BA14F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57A1C-C541-4AD0-BAC0-092974DF1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4D614-2540-42C8-A0C6-477E078B9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53FB5-B396-4A86-AFF3-187895CE6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F5EB5-56BE-4016-8830-4525E1FE2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C659-A1D2-4D70-8A32-D8D8E2C6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EFCB7-E0F0-4252-BA6F-DF9A705C1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67025-DD06-428D-8CFA-2C6477EE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08AA5-F45F-4F2E-8B85-5CFB93E2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7C86A-A523-44D7-A563-29FC7F4C0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2E7D-3DA5-418B-B8BB-AAE8D1F93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FD5D-EBA5-41CF-9062-CE08CD962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C02E-3A8B-45EF-9705-286C820721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42000"/>
          </a:blip>
          <a:stretch/>
        </p:blipFill>
        <p:spPr>
          <a:xfrm>
            <a:off x="0" y="0"/>
            <a:ext cx="9144000" cy="6858000"/>
          </a:xfrm>
          <a:prstGeom prst="rect">
            <a:avLst/>
          </a:prstGeom>
          <a:ln w="0">
            <a:noFill/>
          </a:ln>
        </p:spPr>
      </p:pic>
      <p:sp>
        <p:nvSpPr>
          <p:cNvPr id="49" name=""/>
          <p:cNvSpPr/>
          <p:nvPr/>
        </p:nvSpPr>
        <p:spPr>
          <a:xfrm>
            <a:off x="3125880" y="411480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Baking 221</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lum bright="42000"/>
          </a:blip>
          <a:stretch/>
        </p:blipFill>
        <p:spPr>
          <a:xfrm>
            <a:off x="0" y="0"/>
            <a:ext cx="9144000" cy="6858000"/>
          </a:xfrm>
          <a:prstGeom prst="rect">
            <a:avLst/>
          </a:prstGeom>
          <a:ln w="0">
            <a:noFill/>
          </a:ln>
        </p:spPr>
      </p:pic>
      <p:sp>
        <p:nvSpPr>
          <p:cNvPr id="59" name=""/>
          <p:cNvSpPr/>
          <p:nvPr/>
        </p:nvSpPr>
        <p:spPr>
          <a:xfrm>
            <a:off x="2973600" y="3962520"/>
            <a:ext cx="3843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Baking 221</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http://www.bihbakeshop.com/Baked%20goods%20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http://www.giannis.com/Images/cookiesm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http://home.fnal.gov/~cheung/rtes/RTESWeb/activity_site/images/minis%20mm.jpg"/>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http://www.dkimages.com/discover/previews/761/416993.JPG"/>
          <p:cNvPicPr/>
          <p:nvPr/>
        </p:nvPicPr>
        <p:blipFill>
          <a:blip r:embed="rId1"/>
          <a:stretch/>
        </p:blipFill>
        <p:spPr>
          <a:xfrm>
            <a:off x="0" y="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http://www.brainerddispatch.com/images/102903/nbr_tasting.jpg"/>
          <p:cNvPicPr/>
          <p:nvPr/>
        </p:nvPicPr>
        <p:blipFill>
          <a:blip r:embed="rId1"/>
          <a:stretch/>
        </p:blipFill>
        <p:spPr>
          <a:xfrm>
            <a:off x="2362320" y="0"/>
            <a:ext cx="44654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http://cherrythian.com/images/cookiemonster.jpg"/>
          <p:cNvPicPr/>
          <p:nvPr/>
        </p:nvPicPr>
        <p:blipFill>
          <a:blip r:embed="rId1"/>
          <a:stretch/>
        </p:blipFill>
        <p:spPr>
          <a:xfrm>
            <a:off x="0" y="0"/>
            <a:ext cx="9144000" cy="687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http://blog.kimvallee.com/images/blog_kimvallee_com/WindowsLiveWriter/Artfulrecipecardsbyetsysellerpinkbathtub_7C6/stovetopics_recipecards_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9:07:58Z</dcterms:created>
  <dc:creator>UMF</dc:creator>
  <dc:description/>
  <dc:language>en-US</dc:language>
  <cp:lastModifiedBy>U Maine Farmington</cp:lastModifiedBy>
  <dcterms:modified xsi:type="dcterms:W3CDTF">2008-05-08T11:33:40Z</dcterms:modified>
  <cp:revision>3</cp:revision>
  <dc:subject/>
  <dc:title>PowerPoint Presentation</dc:title>
</cp:coreProperties>
</file>